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20A-B178-4F4A-9AEC-AD71B654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165-E015-47DF-B467-7A9868D3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8DE04-8A1C-45FE-894F-FCFC04FA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0748B-B0FE-47FD-8684-BBEA184F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346AF-279B-4395-A7C9-7D14BA2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53104-8ECF-489B-ADBF-7E5C82D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717B0-73BE-4A9E-8A2A-F2E7A26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AF4B8-4959-4794-824F-4B316EB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9A6C5-8697-452E-8574-25CA144A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39A5B-C924-406B-ABA4-596637A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F0B94-73EB-47B1-B2AC-86C45835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7C9D5-B008-4B98-9911-54A444AE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6DB-2339-412B-AAC2-D20197A5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870D-8574-447A-8347-A122E64B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45CF3-61E0-4499-BF64-27F1D711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829FA-FF7F-4574-A226-F993388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5A5E2-01D1-47C4-9AF1-699AC4B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20186-D75E-4672-9287-65001098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35D1-627E-4431-BAD2-EC90F9E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BEC67-99B4-4825-B13A-27F450A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0540B-1300-4FD5-B3C2-A6DFB27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15796-6A05-4DD4-893B-0947384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4DDA-3B38-4B53-AC4F-0D9BB975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17F-87A6-4611-871A-FBAE0C7D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4C897-DB48-49B6-9989-3B6707B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89681-FAAA-4E8E-B4AD-BC2D86B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E8C0C-F407-4CBD-A6B7-4DE000A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FF21-34D4-4AFD-8C84-48EF3E5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C283-A739-4142-B18F-FCFB274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F2B78-8093-495F-A580-D8BDC21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F490-70A1-469B-9313-0C6F070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B32EB-63F1-4F25-858C-B175E38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389AA-FE0F-46C3-A171-E3B0D0D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C3DAD-D745-4347-ADB2-9C5CB0EA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AB5-BD64-46CD-8A32-BC2988D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3FBA-0830-4BA2-94B5-2CF136B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E716-4CE5-403C-91B6-40E0BCEE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2BBE-DDF8-4A68-A2E4-81A274A7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12ADA-B4AC-4A14-9B3A-20846D3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48716-C910-4227-B295-2F8989DE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8208E-75F9-4623-95C3-3D47E1B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2DECC-248D-4132-91E6-D2AFD14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EAE58-14BC-4BE7-9D7E-ECFC5A58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23376-BB5B-4F75-B199-ABB7C87A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95670-2C3A-4ABE-B54C-72EB29E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EEF-1C51-41EF-BD38-36A92A2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DA19A-360A-4A15-810E-7188D7D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A1531-AF32-4952-A22E-0C64457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52FBC-E87A-47FF-822E-71267159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66B19-CBAB-4FBA-BA89-8DD6C5F4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04D57-B342-4601-BA09-AC0BBB34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0AA9-0750-4CD5-AECA-52433C1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A701-23E5-439F-9806-40B7BDD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C85-5F21-4A3F-BB3F-05296003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5B31-1A6A-4C8F-9AA0-7E4CBCA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EDD6-755C-446D-81D0-3E04110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A61-D37A-4A38-80BE-918F863C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7905-23CD-4BA0-93BD-16E58D3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A89A-87CA-40EF-8905-602681E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CBB-4941-4FAC-8853-3D232E1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0996-C3AB-48DD-97DC-61D442F2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68F-C4B1-4AB9-A1DC-F09CB531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9867-CE4A-4E93-A04F-2BE58C75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6798-2AB9-49E3-B758-B1C22F59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5215-78E8-488D-B15E-9667A11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A96C-3E7B-48BC-B197-4CBB2F9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674C-8E78-4D6D-8D45-4B4F2AF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B43-DBD1-4AB2-98A1-B75843C7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4733-B9D6-44C5-B3F1-0D92E2E9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0857-9D51-43A6-BFC3-E765B68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02B4-08EA-4AB0-8FED-A126868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F010-52BF-4219-A711-D21C14A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9698-6290-4AA1-85F1-2336BC2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FDC0-0383-4FBD-B33E-3195CB6C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BFCC-4271-4818-AB78-E1BE461B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5B7C-CE10-4523-89E6-FB146D01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E728-3A87-448D-B17B-DCC5511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8120-74F8-46B3-AB2D-B683A5F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826-9663-4066-951E-5FF5E983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8282-3E96-461E-8402-15C6F70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DDE4-C391-48DB-81CD-F623C0D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C6ED-34B1-4907-9985-5915919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D878-B9DC-435C-911E-BD8341D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A092-A9C8-4B22-AE9D-0842DBD9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1656-7ACA-4A37-AC2A-5A9AFB3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1907-8765-464D-B339-C69A7AF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9526-27EC-4C66-9F93-0E50A8CD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A134-2781-4F70-B799-F4AF2CB4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70AD-23D9-4AD5-9725-1AAABD8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7E9-30DC-47DB-B95C-170A5FA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9DAF-84B0-4ECD-874B-72B4977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2E2A7-E856-49B8-84AC-8479BD3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11FEF-428F-4319-AE6F-1B55926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FE0A-C693-49E9-8A1B-74B13E63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BAC5-EAA8-42A4-B6A1-65F863E6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C16F-D7CA-4BCA-8476-AE38F34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AD36-A251-44AD-9CDE-272D2A1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373D-4B32-4FDD-8F4C-49D39BB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1B92-5738-430E-AF3F-02266E96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6F2C-57F7-48CC-B444-317830C4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B21-9C45-4870-81F5-1F75DBE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930D-687F-4A5B-AC83-4BB3F623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C28AB-32E5-4BB2-A83B-57DD9ED8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A3D8D-53D2-4523-BCC9-05BED1BF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48D9C-CA51-4122-B032-DBB04A5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E33D0-4FCC-4F7A-885A-E1FE198E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063CE-795C-4A58-BD71-6E7FC90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B3E20-024D-4E9C-870F-EFBD45F6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B7140-127A-4446-9987-8D503752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4B835-377E-4B04-81D4-E5BEF24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0D156-0604-4BDB-AD8F-409C4BA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9C1-902B-4CA4-8BCB-2B672D8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6C53A-865D-4A01-9114-17F04D4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8B00B-0AE5-43E7-851A-5D1A1410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4BD97-EECB-4339-BE68-BDCA04F5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BDB8-23A3-48F3-B357-8B5DCAE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C45C5-5C35-4B31-9164-D3F6848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DF541-CE49-4CFA-B9C3-79C28526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6C410-F71F-4257-BF65-9F860DD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EE46-A9A2-43F4-AFC5-40E6743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7C42-67D4-4161-8DA3-8A61988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82E3-EB4C-441A-9EB6-451550A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00F-9888-4E1A-8E67-027B81C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2E8C-06DB-45DC-98FF-451BE33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E928-3432-4AA3-BECF-83A665C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E7EAD-EA29-47EB-9F5C-492981D7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9616-A091-42A0-A052-77CAE8EC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1DB3-0765-44AA-AACD-4E8822F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4CAA-ED30-4AC7-BA96-9C645894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B013C-ADAE-46FD-90E8-7DA4B53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2320-DE14-46D0-8E26-3B83BB1B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0BADC-6184-4C32-AB35-02E8C21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11E1-75EE-4F23-838F-89A1DE7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E4F-846E-4505-8654-52E6D1E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C215-412D-469C-9F33-EB6DC62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A3EBC-A79E-4E38-B5C5-8B2C9FA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3B5D-3B13-484F-8043-810AAD5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0494-A52D-4B41-AE16-5B3C563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5DB5-1D17-4DBE-B8AD-2AC81258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43A0-48A2-4DF1-90A9-C2185B3A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5BE9-D48C-49B5-96A9-AEF89884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869F-413D-45AC-81C2-521216D3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D61F-DCBE-4A03-BD60-3553152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2082C-90B1-49A4-802C-C4FC7018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F86D-07B2-4AD6-94F4-58A277AAC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37E-6EAD-4366-9200-D26A5EBF6D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F67-8B9D-415A-B470-5F3945520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96F-43AE-48DA-BA76-9076BFFB1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F085-122D-4B58-99AB-C2708924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875A-1CBC-4C18-A39E-5B9ADAB442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C7B-468B-4C7B-B754-C7B797BF94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FDE-1573-4175-B45B-C23DCAF1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F49D-25AA-44CD-BB21-A0F06BB2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AC8-C763-4B32-9C69-03E3DE20A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4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8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A020-17F8-496D-8B2D-2FA0029614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3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3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42B-904E-4499-B0BD-5291701469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otechnolog.r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Сочетает ли в себе грибная клетка растительные и животные черты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ученица 10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негова Ел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, сочетает ли в себе грибная клетка растительные и живот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зучить особенности грибной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явить черты сходства с растительной и грибной клет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ыявить черты различ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Составить сравнительную табли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енности грибной клет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ибы — царство живых организмов, которые сочетают в себе признаки растений и животны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оение грибов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Вегетативное тело подавляющего большинства видов грибов — это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мицелий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грибница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состоящая из тонких бесцветных (иногда слегка окрашенных) нитей, или гиф, с неограниченным ростом и боковым ветвление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итание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По способу питания различают две основные группы грибов: сапротрофы и симбионты. Для последних характерны паразитизм и мутуализм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287964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ерты сходства с растительной и животной клет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С растениями их сближает: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1) наличие хорошо выраженной клеточной стенки; 2) неподвижность в вегетативном состоянии; 3) размножение спорами; 4) способность к синтезу витаминов; 5) поглощение пищи путем всасывания (адсорбции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Общим с животными является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) гетеротрофность; 2) наличие в составе клеточной стенки хитина, характерного для наружного скелета членистоногих; 3) отсутствие в клетках хлоропластов и фотосинтезирующих пигментов; 4) накопление гликогена как запасного вещества; 5) образование и выделение продукта метаболизма — мочевин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ты различ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енности строения и жизнедеятельности грибов позволяют считать их одной их самых древних групп эукариотных организмов, не имеющих прямой эволюционной связи с растениями, как считалось ранее. Грибы и растения возникли независимо от разных форм микроорганизмов, обитавших в в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42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Сравнительная характеристика эукариотических клеток организмов различных царст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Заголовок 1"/>
          <p:cNvSpPr/>
          <p:nvPr/>
        </p:nvSpPr>
        <p:spPr>
          <a:xfrm>
            <a:off x="609480" y="1890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539640" y="1125360"/>
          <a:ext cx="8280360" cy="5408640"/>
        </p:xfrm>
        <a:graphic>
          <a:graphicData uri="http://schemas.openxmlformats.org/drawingml/2006/table">
            <a:tbl>
              <a:tblPr/>
              <a:tblGrid>
                <a:gridCol w="2035440"/>
                <a:gridCol w="2036520"/>
                <a:gridCol w="2036880"/>
                <a:gridCol w="2171520"/>
              </a:tblGrid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Грибо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Растени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950f9f"/>
                          </a:solidFill>
                          <a:latin typeface="Arial"/>
                        </a:rPr>
                        <a:t>Животных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чная стенк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ном их хитин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целлюлозы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ая вакуол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опласты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питания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тер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теротрофный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оли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вают редко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у некоторых мхов и папоротник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ервный питательный углевод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коген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хмал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коген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следовав данный вопрос, я пришла к выводу, что грибная клетка сочетает в себе растительные и животные чер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olbiol.r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biotechnolog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www.krugosvet.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26:21Z</dcterms:created>
  <dc:creator>07107</dc:creator>
  <dc:description/>
  <dc:language>en-US</dc:language>
  <cp:lastModifiedBy>07107</cp:lastModifiedBy>
  <dcterms:modified xsi:type="dcterms:W3CDTF">2009-11-09T08:01:45Z</dcterms:modified>
  <cp:revision>4</cp:revision>
  <dc:subject/>
  <dc:title>Царство Грибы</dc:title>
</cp:coreProperties>
</file>